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0D5-18F1-4B1D-8AC2-13A081A4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B42-376F-4AC9-A618-17BB49D3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474-C9C0-43A3-BCA3-DBCB7ED8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2E9-E8DF-4F59-AB02-9D0B99A0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54C-406E-4BA1-93DB-D980BB3F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94B-4692-4829-8D09-BD9B6A99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C07-60C1-4843-9522-29663A32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BAE-B498-4488-AEBA-706F7847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ECC-CF2F-4BBD-9502-06DED7C2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2CA-C1B9-4661-A069-4DC95CA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C04-9CB1-4CE9-8BEE-6689938D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A4E-4B10-4FC1-96C7-A2A9B113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51BD-6A72-4FA6-B4C4-39A1C69F792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2 Tak veľmi Boh svet milo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veľmi Boh svet milov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hriešny, strate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na smrť svojho Syna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dar ten docení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á Božia láska nesmier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oj mojej ist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za mňa život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ríži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iere vďačne vyznáva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môj Boh a Pá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 život rád mu odovzd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spásu v ňom len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á Božia láska nesmier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oj mojej ist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za mňa život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ríži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Ježišovom víťazstv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spievať deň čo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ríde v sláve, radost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 s láskou víta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á Božia láska nesmier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oj mojej ist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za mňa život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ríži Golgoty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0:34:15Z</dcterms:modified>
  <cp:revision>25</cp:revision>
  <dc:subject/>
  <dc:title>Je veľký náš Pán, on slávy je Kráľ Nech do všetkých strán  spev vrúcnych znie chvál.</dc:title>
</cp:coreProperties>
</file>